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DF2-D8B8-4AF7-ADB2-E31FF60F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50A-C9CC-4BF1-86CC-52BE79B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B49-3546-4DAE-B8C7-19E3D886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69A-2430-42C7-BF2C-DB503826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B88-08D3-4080-8BF1-CCB482D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25C-BF48-4EF7-A6AF-7FEAC06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0AA-D3C5-4444-A6EF-07FC37D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626-AF3D-46F0-B3A3-0756A5CA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19B-D937-4289-AF38-3DF8B56B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F9A-8CA7-4482-9209-1750B63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AD9-3D35-4A3B-8076-E8E75FC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129-E156-40C4-8294-D1AC864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FC57-5C58-4406-BD50-C49DDB1B8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92504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  <a:ea typeface="宋体"/>
              </a:rPr>
              <a:t>Lesson 5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Comic Sans MS"/>
                <a:ea typeface="宋体"/>
              </a:rPr>
              <a:t>In the Living R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41240" y="41112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u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295280" y="1066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raw lots(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抽签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90720" y="2971800"/>
            <a:ext cx="72388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B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Comic Sans MS"/>
              </a:rPr>
              <a:t>drawing a       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914400" y="42670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them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re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8580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c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57200" y="19051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m swimming in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aiting for the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riting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ter 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lking with little 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leaning the tiger’s f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shouting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roblem!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155520" y="-139680"/>
            <a:ext cx="30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55520" y="-139680"/>
            <a:ext cx="30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" descr="u=443069068,3938718090&amp;fm=23&amp;gp=0.jpg"/>
          <p:cNvPicPr/>
          <p:nvPr/>
        </p:nvPicPr>
        <p:blipFill>
          <a:blip r:embed="rId1"/>
          <a:srcRect l="0" t="0" r="0" b="7332"/>
          <a:stretch/>
        </p:blipFill>
        <p:spPr>
          <a:xfrm>
            <a:off x="304920" y="4210200"/>
            <a:ext cx="2666880" cy="2647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u=1901096802,383949369&amp;fm=23&amp;gp=0.jpg"/>
          <p:cNvPicPr/>
          <p:nvPr/>
        </p:nvPicPr>
        <p:blipFill>
          <a:blip r:embed="rId2"/>
          <a:stretch/>
        </p:blipFill>
        <p:spPr>
          <a:xfrm>
            <a:off x="1143000" y="2133720"/>
            <a:ext cx="287820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u=3156042071,1408899246&amp;fm=21&amp;gp=0(1).jpg"/>
          <p:cNvPicPr/>
          <p:nvPr/>
        </p:nvPicPr>
        <p:blipFill>
          <a:blip r:embed="rId3"/>
          <a:srcRect l="0" t="6064" r="0" b="0"/>
          <a:stretch/>
        </p:blipFill>
        <p:spPr>
          <a:xfrm>
            <a:off x="5372280" y="4495680"/>
            <a:ext cx="3771720" cy="2362320"/>
          </a:xfrm>
          <a:prstGeom prst="rect">
            <a:avLst/>
          </a:prstGeom>
          <a:ln w="0">
            <a:noFill/>
          </a:ln>
        </p:spPr>
      </p:pic>
      <p:sp>
        <p:nvSpPr>
          <p:cNvPr id="114" name="矩形 12"/>
          <p:cNvSpPr/>
          <p:nvPr/>
        </p:nvSpPr>
        <p:spPr>
          <a:xfrm>
            <a:off x="8153280" y="56386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u=2948821091,3470879032&amp;fm=23&amp;gp=0.jpg"/>
          <p:cNvPicPr/>
          <p:nvPr/>
        </p:nvPicPr>
        <p:blipFill>
          <a:blip r:embed="rId4"/>
          <a:stretch/>
        </p:blipFill>
        <p:spPr>
          <a:xfrm>
            <a:off x="2971800" y="2743200"/>
            <a:ext cx="149544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6"/>
          <p:cNvSpPr/>
          <p:nvPr/>
        </p:nvSpPr>
        <p:spPr>
          <a:xfrm>
            <a:off x="2286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r. and Mrs.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8"/>
          <p:cNvSpPr/>
          <p:nvPr/>
        </p:nvSpPr>
        <p:spPr>
          <a:xfrm>
            <a:off x="2286000" y="2209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53341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rand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74674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1"/>
          <p:cNvSpPr/>
          <p:nvPr/>
        </p:nvSpPr>
        <p:spPr>
          <a:xfrm>
            <a:off x="3049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2"/>
          <p:cNvSpPr/>
          <p:nvPr/>
        </p:nvSpPr>
        <p:spPr>
          <a:xfrm>
            <a:off x="3049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and fill in the bl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3200400" y="914400"/>
            <a:ext cx="5486400" cy="7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3526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42670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5105520" y="1066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5943600" y="106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731520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838080" y="8780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heck your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457200" y="1676520"/>
            <a:ext cx="83818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! My name is Mary. This is my friend Lily’s family. We are in the park. Look at ____. We are very happy. Do you see Lily? She is in yellow. Look at _____. She is playing on the computer. Mr. and Mrs. Li are reading a book. Do you see ______? Leo is playing chess with grandpa.  Grandpa is sitting across from ______. Where is _______? I am looking at Lily. We are having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33520" y="4648320"/>
            <a:ext cx="807696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83808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90512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200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495680" y="4800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617220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6337E-006 C -0.04775 -0.03816 -0.09549 -0.07562 -0.11164 -0.09921 C -0.12778 -0.1228 -0.09427 -0.11401 -0.0967 -0.14153 C -0.09931 -0.16905 -0.11111 -0.2345 -0.12674 -0.26457 C -0.14236 -0.29486 -0.18004 -0.29787 -0.19011 -0.32285 C -0.2 -0.34829 -0.19341 -0.38205 -0.18664 -0.41559 E">
                                      <p:cBhvr>
                                        <p:cTn id="31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56337E-006 C 0.0941 -0.03238 0.18837 -0.06406 0.23907 -0.0932 C 0.28959 -0.12211 0.2849 -0.14454 0.30365 -0.17299 C 0.3224 -0.20166 0.33021 -0.2345 0.35174 -0.26572 C 0.37344 -0.29695 0.41997 -0.34412 0.43334 -0.36008 E">
                                      <p:cBhvr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6337E-006 C -0.07986 -0.04209 -0.15938 -0.08395 -0.18594 -0.10939 C -0.2125 -0.1346 -0.16111 -0.12951 -0.15938 -0.15263 C -0.15764 -0.17599 -0.16684 -0.213 -0.1757 -0.24907 E">
                                      <p:cBhvr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56337E-006 C 0.13194 -0.01364 0.26441 -0.02659 0.31962 -0.06059 C 0.375 -0.09482 0.35295 -0.15009 0.33108 -0.20467 E">
                                      <p:cBhvr>
                                        <p:cTn id="331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56337E-006 C 0.0474 -0.02891 0.0948 -0.05712 0.1033 -0.07123 C 0.11181 -0.08534 0.06042 -0.07123 0.05157 -0.08441 C 0.04271 -0.09736 0.04636 -0.1235 0.05 -0.14917 E">
                                      <p:cBhvr>
                                        <p:cTn id="335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0666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Choose a picture and wr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6464-11100Q3412360.jpg"/>
          <p:cNvPicPr/>
          <p:nvPr/>
        </p:nvPicPr>
        <p:blipFill>
          <a:blip r:embed="rId1"/>
          <a:stretch/>
        </p:blipFill>
        <p:spPr>
          <a:xfrm>
            <a:off x="533520" y="914400"/>
            <a:ext cx="2781360" cy="18558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1066680" y="914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981080" y="914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429000" y="83808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Look! This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Ti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He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working on the computer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To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sitting beside hi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They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busy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8" descr="u=798162394,794392395&amp;fm=23&amp;gp=0.jpg"/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" descr="u=3774340792,148251589&amp;fm=23&amp;gp=0.jpg"/>
          <p:cNvPicPr/>
          <p:nvPr/>
        </p:nvPicPr>
        <p:blipFill>
          <a:blip r:embed="rId3"/>
          <a:srcRect l="14369" t="0" r="0" b="0"/>
          <a:stretch/>
        </p:blipFill>
        <p:spPr>
          <a:xfrm>
            <a:off x="6553080" y="3276720"/>
            <a:ext cx="2276640" cy="17762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2" descr="u=1862235814,3244226229&amp;fm=23&amp;gp=0.jpg"/>
          <p:cNvPicPr/>
          <p:nvPr/>
        </p:nvPicPr>
        <p:blipFill>
          <a:blip r:embed="rId4"/>
          <a:srcRect l="7998" t="0" r="0" b="20005"/>
          <a:stretch/>
        </p:blipFill>
        <p:spPr>
          <a:xfrm>
            <a:off x="6235560" y="1676520"/>
            <a:ext cx="290844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4" name="TextBox 13"/>
          <p:cNvSpPr/>
          <p:nvPr/>
        </p:nvSpPr>
        <p:spPr>
          <a:xfrm>
            <a:off x="2819520" y="2971800"/>
            <a:ext cx="3657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ing football …  watching T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 the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g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ing a bicyc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3" descr="u=442739326,3214838747&amp;fm=23&amp;gp=0.jpg"/>
          <p:cNvPicPr/>
          <p:nvPr/>
        </p:nvPicPr>
        <p:blipFill>
          <a:blip r:embed="rId5"/>
          <a:srcRect l="0" t="21340" r="0" b="0"/>
          <a:stretch/>
        </p:blipFill>
        <p:spPr>
          <a:xfrm>
            <a:off x="457200" y="4648320"/>
            <a:ext cx="1719360" cy="1904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0" y="2743200"/>
            <a:ext cx="2819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1066680" y="2590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hare your wri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266688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68580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c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457200" y="19051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m swimming in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aiting for the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riting letter 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lking with little 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leaning the tiger’s f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shouting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roblem!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"/>
          <p:cNvSpPr/>
          <p:nvPr/>
        </p:nvSpPr>
        <p:spPr>
          <a:xfrm>
            <a:off x="1295280" y="1295280"/>
            <a:ext cx="7162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read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Part 2 on page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describe a picture of your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9" descr="b_1379041558030.jpg"/>
          <p:cNvPicPr/>
          <p:nvPr/>
        </p:nvPicPr>
        <p:blipFill>
          <a:blip r:embed="rId1"/>
          <a:stretch/>
        </p:blipFill>
        <p:spPr>
          <a:xfrm>
            <a:off x="16002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QQ截图20140624141014.png"/>
          <p:cNvPicPr/>
          <p:nvPr/>
        </p:nvPicPr>
        <p:blipFill>
          <a:blip r:embed="rId1"/>
          <a:stretch/>
        </p:blipFill>
        <p:spPr>
          <a:xfrm>
            <a:off x="1905120" y="1219320"/>
            <a:ext cx="5257800" cy="3703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0b6200c5e84f399a9a32a7360790a1da.jpg"/>
          <p:cNvPicPr/>
          <p:nvPr/>
        </p:nvPicPr>
        <p:blipFill>
          <a:blip r:embed="rId2"/>
          <a:stretch/>
        </p:blipFill>
        <p:spPr>
          <a:xfrm>
            <a:off x="3200400" y="18288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14400" y="533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k about the picture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09480" y="53341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atc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85800" y="9144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and write T or F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esson5第一部分.mp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57200" y="1754280"/>
            <a:ext cx="8534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1. Jenny is sitting in a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2. Mr. and Mrs. Smith are reading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3. Lynn is sitting at a small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4.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 are in the bed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5.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ynn and Bob are in front of Mr. and M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mi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4114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09480" y="2971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094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480" y="1828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6094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205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762120" y="20574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Jenny is  sitting in a   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687960" y="2057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221184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弧形 8"/>
          <p:cNvSpPr/>
          <p:nvPr/>
        </p:nvSpPr>
        <p:spPr>
          <a:xfrm rot="8213400">
            <a:off x="3744360" y="2225160"/>
            <a:ext cx="438120" cy="427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 rot="2028000">
            <a:off x="4206600" y="223344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838080" y="29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 are playing   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68796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3"/>
          <p:cNvSpPr/>
          <p:nvPr/>
        </p:nvSpPr>
        <p:spPr>
          <a:xfrm rot="8213400">
            <a:off x="1534680" y="3063600"/>
            <a:ext cx="438120" cy="426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 rot="2028000">
            <a:off x="3673080" y="314784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838080" y="4038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ynn and Bob are in     front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8"/>
          <p:cNvSpPr/>
          <p:nvPr/>
        </p:nvSpPr>
        <p:spPr>
          <a:xfrm>
            <a:off x="228816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弧形 17"/>
          <p:cNvSpPr/>
          <p:nvPr/>
        </p:nvSpPr>
        <p:spPr>
          <a:xfrm rot="8213400">
            <a:off x="5420880" y="4130280"/>
            <a:ext cx="438120" cy="426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 rot="2028000">
            <a:off x="4282560" y="421488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8"/>
          <p:cNvSpPr/>
          <p:nvPr/>
        </p:nvSpPr>
        <p:spPr>
          <a:xfrm>
            <a:off x="68796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762120" y="5029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’m sitting at a small     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弧形 22"/>
          <p:cNvSpPr/>
          <p:nvPr/>
        </p:nvSpPr>
        <p:spPr>
          <a:xfrm rot="8213400">
            <a:off x="2829960" y="5196960"/>
            <a:ext cx="438120" cy="427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8"/>
          <p:cNvSpPr/>
          <p:nvPr/>
        </p:nvSpPr>
        <p:spPr>
          <a:xfrm>
            <a:off x="611640" y="5105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 rot="2028000">
            <a:off x="4419360" y="518148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8"/>
          <p:cNvGrpSpPr/>
          <p:nvPr/>
        </p:nvGrpSpPr>
        <p:grpSpPr>
          <a:xfrm>
            <a:off x="2590920" y="533520"/>
            <a:ext cx="4287240" cy="825120"/>
            <a:chOff x="2590920" y="533520"/>
            <a:chExt cx="4287240" cy="825120"/>
          </a:xfrm>
        </p:grpSpPr>
        <p:sp>
          <p:nvSpPr>
            <p:cNvPr id="75" name="Rectangle 30"/>
            <p:cNvSpPr/>
            <p:nvPr/>
          </p:nvSpPr>
          <p:spPr>
            <a:xfrm>
              <a:off x="3581280" y="533520"/>
              <a:ext cx="14220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Ti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2590920" y="685080"/>
              <a:ext cx="12416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重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4190400" y="990360"/>
              <a:ext cx="12416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降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5638320" y="608760"/>
              <a:ext cx="12398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连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1"/>
            <p:cNvSpPr/>
            <p:nvPr/>
          </p:nvSpPr>
          <p:spPr>
            <a:xfrm rot="2028000">
              <a:off x="3899520" y="1055520"/>
              <a:ext cx="276120" cy="135720"/>
            </a:xfrm>
            <a:custGeom>
              <a:avLst/>
              <a:gdLst>
                <a:gd name="textAreaLeft" fmla="*/ 54720 w 276120"/>
                <a:gd name="textAreaRight" fmla="*/ 167760 w 276120"/>
                <a:gd name="textAreaTop" fmla="*/ 18000 h 135720"/>
                <a:gd name="textAreaBottom" fmla="*/ 117720 h 13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76" hR="21600" stAng="10800000" swAng="5400000"/>
                  <a:lnTo>
                    <a:pt x="8832" y="0"/>
                  </a:lnTo>
                  <a:arcTo wR="8576" hR="21600" stAng="-5400000" swAng="2898935"/>
                  <a:lnTo>
                    <a:pt x="21110" y="14400"/>
                  </a:lnTo>
                  <a:lnTo>
                    <a:pt x="17280" y="21600"/>
                  </a:lnTo>
                  <a:lnTo>
                    <a:pt x="12470" y="14400"/>
                  </a:lnTo>
                  <a:lnTo>
                    <a:pt x="16662" y="14400"/>
                  </a:lnTo>
                  <a:arcTo wR="8576" hR="21600" stAng="-2501065" swAng="-2878561"/>
                  <a:lnTo>
                    <a:pt x="8704" y="2"/>
                  </a:lnTo>
                  <a:arcTo wR="8576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576" hR="21600" stAng="10800000" swAng="5400000"/>
                  <a:lnTo>
                    <a:pt x="8576" y="0"/>
                  </a:lnTo>
                  <a:arcTo wR="8576" hR="21600" stAng="-5400000" swAng="20374"/>
                  <a:lnTo>
                    <a:pt x="8704" y="2"/>
                  </a:lnTo>
                  <a:arcTo wR="8576" hR="21600" stAng="-5420374" swAng="-5379626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18"/>
          <p:cNvSpPr/>
          <p:nvPr/>
        </p:nvSpPr>
        <p:spPr>
          <a:xfrm>
            <a:off x="2211840" y="685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弧形 38"/>
          <p:cNvSpPr/>
          <p:nvPr/>
        </p:nvSpPr>
        <p:spPr>
          <a:xfrm rot="8213400">
            <a:off x="5115960" y="396360"/>
            <a:ext cx="438120" cy="427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2"/>
          <p:cNvSpPr/>
          <p:nvPr/>
        </p:nvSpPr>
        <p:spPr>
          <a:xfrm>
            <a:off x="1905120" y="380880"/>
            <a:ext cx="51051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68580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ad and find the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60948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Q1: Who is sitting beside Jenn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2193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nny is sitting beside  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685800" y="3581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Q2: Who is sitting beside Bob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29528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ynn is sitting besi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4472640" y="45720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4406400" y="45720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728960" y="25146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532040" y="251460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Je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QQ截图20140624141014.png"/>
          <p:cNvPicPr/>
          <p:nvPr/>
        </p:nvPicPr>
        <p:blipFill>
          <a:blip r:embed="rId1"/>
          <a:stretch/>
        </p:blipFill>
        <p:spPr>
          <a:xfrm>
            <a:off x="5657760" y="1341360"/>
            <a:ext cx="2327400" cy="2865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QQ截图20140624141014.png"/>
          <p:cNvPicPr/>
          <p:nvPr/>
        </p:nvPicPr>
        <p:blipFill>
          <a:blip r:embed="rId2"/>
          <a:stretch/>
        </p:blipFill>
        <p:spPr>
          <a:xfrm>
            <a:off x="5589720" y="3475080"/>
            <a:ext cx="2384280" cy="2944800"/>
          </a:xfrm>
          <a:prstGeom prst="rect">
            <a:avLst/>
          </a:prstGeom>
          <a:ln w="0">
            <a:noFill/>
          </a:ln>
        </p:spPr>
      </p:pic>
      <p:cxnSp>
        <p:nvCxnSpPr>
          <p:cNvPr id="94" name="直接箭头连接符 13"/>
          <p:cNvCxnSpPr/>
          <p:nvPr/>
        </p:nvCxnSpPr>
        <p:spPr>
          <a:xfrm>
            <a:off x="6019920" y="1143000"/>
            <a:ext cx="381600" cy="45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" name="直接箭头连接符 15"/>
          <p:cNvCxnSpPr/>
          <p:nvPr/>
        </p:nvCxnSpPr>
        <p:spPr>
          <a:xfrm flipH="1">
            <a:off x="7238520" y="3276720"/>
            <a:ext cx="457920" cy="45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380880" y="1600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 and underline the words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362320" y="1219320"/>
          <a:ext cx="4190760" cy="3811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矩形 4"/>
          <p:cNvSpPr/>
          <p:nvPr/>
        </p:nvSpPr>
        <p:spPr>
          <a:xfrm>
            <a:off x="3183120" y="1295280"/>
            <a:ext cx="26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宾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95280" y="1066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raw lots(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抽签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990720" y="2590920"/>
            <a:ext cx="72388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B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Comic Sans MS"/>
              </a:rPr>
              <a:t>drawing a       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914400" y="3886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im/her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e/Sh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s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drawi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8:29:25Z</dcterms:created>
  <dc:creator/>
  <dc:description/>
  <cp:keywords/>
  <dc:language>en-US</dc:language>
  <cp:lastModifiedBy>admin</cp:lastModifiedBy>
  <dcterms:modified xsi:type="dcterms:W3CDTF">2015-12-21T08:16:32Z</dcterms:modified>
  <cp:revision>365</cp:revision>
  <dc:subject/>
  <dc:title>Lesson 5  In the Living 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